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C4D3-8F53-4D05-BA11-2BA8A91B217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2101-1A78-4C8A-990F-79A579298FE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774DD-EE07-46B6-943E-C0CA19BD50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5A2BC-24A8-4CA3-A532-825F7D79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D6D48-7F6D-4267-B5C3-CA5AB995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634C3-3527-48A0-91C9-C60155FFFF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97E56-2072-4489-911E-738FE50C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00A6B-C6B2-49FE-9F4E-7D240831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79329-BE6E-4DD8-B1A6-CC4FE092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217B0-A9D3-4EE6-AA3D-2EF3E75D5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A2A37-15FE-417A-94C9-25AACC4F6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62491-C7B0-4F55-AE87-F3232E31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0B7D4-9596-4F78-BEC9-5AB15BB0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5255A-6A0E-435A-824F-FF2CD9AC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0F37-E7D3-4614-B263-3DA25509EE6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担心麻醉或手术出现意外、术后效果不好、住院费用高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型态紊乱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住院环境不适应、担心手术效果及疾病预后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摄入不足或分解代谢增强、疾病消耗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所致的体液丢失、液体摄入不足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：备皮范围包括切口周围至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68520" indent="-2570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患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妊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间内只放置必需用物且位置固定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单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单类均采用高压蒸汽灭菌，保存时间夏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手术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围术期、围术期护理的概念和手术室布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并发症及观察要点和常用手术体位及适应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手术室环境和消毒方法及手术室管理制度、手术室护士的工作内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基本器械，采用高压蒸汽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信息核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半坐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铺单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手消毒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651120" y="261936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876840" y="2752560"/>
            <a:ext cx="52671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716120" y="342900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203640" y="315756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不同级别洁净手术室的净化标准和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沾染手术的隔离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创伤、特殊体位等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后卧床、活动量减少、切口疼痛、呼吸运动受限、使用镇静剂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如厕、卫生）自理缺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后疼痛、虚弱、活动受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痰液黏稠、切口疼痛、不能有效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　与禁食、创伤后机体代谢率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出血、切口感染、切口裂开、肺部感染、泌尿系统感染、深静脉血栓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完成术前的特殊准备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照无菌操作要求，正确行外科手消毒、穿脱无菌手术衣和戴无菌手套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所学的知识，对手术室不同类型物品选择合适的消毒灭菌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后常见并发症进行正确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位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式、患者全身情况、手术方式、疾病性质等选择卧位，使患者处于舒适和便于活动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监护指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咽喉部不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行地塞米松雾化吸入每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，减轻局部黏膜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围术期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患者从确定手术治疗时起，到与这次手术有关的治疗基本结束的这段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前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后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易消化、高热量、高蛋白、高维生素、富含膳食纤维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和患者耐受程度循序渐进地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锻炼知识和指导术后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遵医嘱按时、按量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复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有特殊情况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分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：择期手术、限期手术、急症手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择期手术前准备 心理护理；维持体液与营养平衡；保证睡眠和休息；作好术前的常规准备（呼吸道准备、胃肠道准备、备皮、配血、药物过敏试验、术前训练等）；术日晨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症手术前准备  密切观察病情变化；快速备皮、备血、药物过敏试验、术前用药等；纠正水、电解质和酸碱失衡；给休克者建立静脉输液通道；胃肠道梗阻者，禁饮食、胃肠减压；有感染者遵医嘱应用抗生素；术前不灌肠、不用泻剂；做好患者和家属的心理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护理工作 手术室是患者进行手术的重要场所，其布局、设置、分区（非洁净区、准洁净区、洁净区）合理。有严格的手术室管理和消毒灭菌制度。强调手术人员必须进行严格的外科手消毒、穿无菌手术衣、戴无菌手套方可为患者进行手术。术前要认真核对患者各项信息如科室、床位、姓名、性别、年龄、住院号、手术部位、手术名称等，检查术前准备是否完善。手术室器械护士和巡回护士做好手术配合及术中无菌操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置患者合适的体位；病情观察；维持体液与营养平衡；加强切口和引流的护理；术后常见不适如切口疼痛、恶心、呕吐、咽喉部不适、发热、腹胀、呃逆、尿潴留进行护理。重点是对术后常见并发症如出血、切口感染、切口裂开、肺部、尿路感染、深静脉血栓形成等并发症的预防和对症处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入院诊断为急性肠梗阻，既往有糖尿病、高血压病史，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8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65/92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 13.6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入院当日即在全麻下行剖腹探查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用力咳嗽咳痰时，突然发生腹部切口裂开，患者感到切口剧烈疼痛和松开感，随即发现肠管外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患者发生切口裂开的主要原因是什么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如何处理此种情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老年人且血糖较高和发热，因糖尿病患者在整个围术期机体均处于应激状态，血糖高时易发生切口感染，影响伤口愈合。另外患者突然用力咳嗽咳痰使腹压增加而导致切口裂开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慰患者及家属，同时做好心理护理，使其保持镇静，立即用无菌生理盐水纱布覆盖切口和腹带包扎，通知医师重新缝合处理切口。若有肠管脱出，不能直接将肠管还纳，以免造成腹腔内感染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巡回护士和器械护士共同清点核对各种器械、敷料和缝针等数量，下列说法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关闭体腔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合切口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点目的是防止遗留体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首选环氧乙烷方法灭菌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金属器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类物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搪瓷器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内镜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刀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人员穿好手术衣、戴好无菌手套后，双手应保持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视线范围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前、双肘内收靠近体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交叉腋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举头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腰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区备皮范围应包括切口周围区域至少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0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12cm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3cm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14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15cm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包在备用、未污染和干燥条件下，有效期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室的洁净区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物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准备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手术摆放体位时不能选择膀胱截石位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肛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会阴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尿道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某患者行疝修补术后第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天，体温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37.8℃,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正确的处理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嘱患者大量饮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给予药物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乙醇擦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冰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需特殊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胃肠道手术后患者开始进食的时间是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恶心呕吐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消失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肛门排气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拆线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某患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有吸烟史，行膝关节置换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自觉患侧小腿肌肉疼痛，并有轻度肿胀，查体腓肠肌挤压试验阳性，此时应考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输液外渗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静脉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蛋白水肿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下肢静脉血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手术创伤所致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后发生下肢静脉血栓，处理措施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立即停止患肢静脉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肢、制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硫酸镁湿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热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凝药和溶栓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因行十二指肠球部溃疡穿孔行修补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，已排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，但每次尿量少，为数毫升。该患者可能出现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失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肾积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B   2.D  3.B  4.E  5.C  6.D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.E   8.D  9.D  10.D   11.D   12.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高血压病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。上腹不适、隐痛、反酸、食欲下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出现消瘦、体重明显减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上腹可触及结节状肿块，质地较硬有压痛，左锁骨上触及肿大淋巴结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纤维胃镜：胃癌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18:18Z</dcterms:modified>
  <cp:revision>92</cp:revision>
  <dc:subject/>
  <dc:title>内科护理学</dc:title>
</cp:coreProperties>
</file>